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5F64-3000-44B2-A971-E893D0D0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2BE6-8B3A-472F-B191-F6B79332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76B6-A8CF-4122-BE4D-EB22EAD6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48CD-4ED6-4494-8E21-79BFB024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75A1-37E4-4397-9C53-C59E5D85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5CA6-C47D-4F83-8C0C-7103976E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6133-1A29-48D3-AD02-2FA56036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E6C1-63BB-40C2-8BAC-C356BA1B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04C6-1482-47F8-A7C3-ABAD8CF6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6276-CD3E-4DFA-AEB1-C2A1A357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3135-158F-4F06-B81B-FBB19659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B3BF-183A-4FD7-87F8-A9681B1E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38B6-E7CD-4471-854E-2E6320E0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46ED-777E-4629-97C7-010FF152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A9D7-42CF-42E6-9101-598B75B6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B760-D534-4F5F-9F83-69632031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1459-C936-452F-AD3F-E9D981BF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BB69-D042-42DD-AA41-94C42225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22F8-C14D-46A4-8448-8F3BCE5C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DCD6-2B10-4348-9EC2-955FC981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556B7-084F-4D2E-BC36-A635EB8E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9DF0-0C7A-4A46-93A9-ADCD3AE9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FE5DF-ADD5-4342-A369-7D973AD7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1DD4-4354-4C49-8413-C57BF599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27A9-A230-48D0-8FC9-B33F80274B1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133D-5F8E-49A1-BC99-56199E9FF03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799920"/>
            <a:ext cx="892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403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 вечно да живея, не ми се щ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 бури тъй често покриват небе! Доволно са земните весели дни, [:доволно и дните на земни беди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81080" y="1488600"/>
            <a:ext cx="9506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тука съм оплетен с опасност и грях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вред с изкушения измъчван и страх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селието е смесено със злин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на спасение чашата - с горчивина!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181080" y="16311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тъмния гроб аз не ще се боя -Исус там е имал постеля Сво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в сладък покой аз ще чакам час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кога ще ме вземе Бог мой в небеса!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09:32:55Z</dcterms:modified>
  <cp:revision>71</cp:revision>
  <dc:subject/>
  <dc:title>Slide 1</dc:title>
</cp:coreProperties>
</file>